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C00-5B31-4569-8089-2ECF9065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3C6-681F-4E86-AF9D-AEA5C5E7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79A-2CF7-461A-B268-7A4F858A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CF9-99EF-4684-B6B7-C1301878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5093-CC9C-4A57-B024-E2B567B1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AE67-41C1-4EF0-B488-4FE38EFB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E57F-E7A8-455D-B658-B0B420FE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5F27-C204-47F4-9E7C-551D8C59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4288-DA7A-4F94-8A3B-09D35A4C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C644-58F5-4863-A0AA-EC8A5DDD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F118-5D7D-43F4-8F65-D1BEDCD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3AF-DBC0-4FD4-8E85-30CF0DB7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1FB0-57EB-4E0B-98F8-A580669C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AA4B-5B11-4E7F-BE33-5AED2FBC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AA18-A83A-4B48-95F1-12972447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58AC-844E-4586-BE85-BB29F390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8797-19B6-4FC1-91F7-9AA9E0E9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CA4-09DE-439B-8FEF-7D7AD0AB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129-8671-41FF-AB18-C8A64069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F3B-0FBE-4AEC-B1A6-BBC47436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201-DC85-4191-8B31-417C5091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F2D-7555-48E4-924C-48FAF535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C77-BE7F-4F16-B05D-C4471D6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919-1D42-417D-A038-4EA9A0A7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1E2D-A53E-4287-953C-A30A087C97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05AE-2C60-4337-A779-2F444331C3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Intermediate 2 P.E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N.A.B par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106280" cy="181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N.A.B part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.A.B part 2: 2 questions (5 marks 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ate: Monday 7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Septe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mework: Study for NAB par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eriod Starter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process did you follow to gather information on your perform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. Define each of the fo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pen skill / closed skill / simple skill / complex sk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. Choose 1 method of practise and describe a practise that would help to improve your weak sk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del Perform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Key concep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kill and skilled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Key Featur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l perfor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player who can execute a skill with maximum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del perform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/ c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m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fessional perfo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4508640"/>
            <a:ext cx="709560" cy="1779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344600" cy="1801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932360" y="4653000"/>
            <a:ext cx="1152360" cy="1606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2771640" y="4653000"/>
            <a:ext cx="1513080" cy="184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del Perform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kills are carried out fluently, controlled with minimum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ask 1: Discuss with a partner 3 more characteristics of a model performer (add these to your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del Perform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ives a mental picture of the skill you are trying to 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otivates you to become a better p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helps to determine training priorities by comparing perform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study the fine detail of a skill by breaking it down into P.A.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tages of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Key Concep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development of skills and the refinement of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Key Featur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tages of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 S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gnitive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ssociative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utonomous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tages of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ognitive / preparation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rying to establish what the skill invo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rrors are 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You need advice and encour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t this stage you wil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et a mental picture of the 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hadow the correct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ompare your performance with model perfor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tages of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ethods of practise u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hadow pract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petition without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ask 3: Write down the same information for the next 2 stages of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(5mi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3:22:56Z</dcterms:created>
  <dc:creator>Carrie</dc:creator>
  <dc:description/>
  <dc:language>en-US</dc:language>
  <cp:lastModifiedBy>FlemingC1</cp:lastModifiedBy>
  <dcterms:modified xsi:type="dcterms:W3CDTF">2009-08-31T09:28:27Z</dcterms:modified>
  <cp:revision>5</cp:revision>
  <dc:subject/>
  <dc:title>S3 Intermediate P.E  Skills and Techniques</dc:title>
</cp:coreProperties>
</file>